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058-8105-4C11-AF1F-6B790B19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595-48ED-4CA6-9491-A228CAD4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508-F8F5-483C-A329-BD1B7FF7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873-2390-4883-A572-53CACA3F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9861-A97F-492F-9DC9-DA97AFC7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8FDE-24B1-4E40-A8B2-94CA4F9D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00CC-41DB-4B83-AC11-45F3C9FD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FAB9-0A34-45C3-9D8F-5BC8E75A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8E35-C8D0-4135-A602-F58214CF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6C22-2575-411C-AEEC-2BEC293B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A751-F17C-40DD-A190-0C77E549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C53-B4EB-4BCE-BFE7-9DB9E8FD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2952-9A39-4404-BAD2-E109C195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07A7-4998-45CD-A07B-AA845B0A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88C2-D4F8-45EA-A431-21C7480E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CC79-F91B-4145-9796-A92B2532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6056-312F-4461-B48E-BFC18299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A37-FDF4-4457-9651-CCB82129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184-1160-4A5A-AE0D-3DF12C55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ECF-2B88-451A-96D2-5AB41632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130-396F-4BDF-9D62-A03853A4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5F4C-9958-42C7-8757-18938DD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B76-7B6C-42A2-BF1D-2A8FB4B9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333-75C6-4DD5-AF8B-1CEA34F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4A14-87C3-4AAD-8AB7-7591625071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D8E4-18AC-4659-A259-905FC4CAC698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%5CWINDOWS%5CTemp%5C$BSLMBD$%5CDDAE0DC998822ECE1E9649B678DC5BB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%5CWINDOWS%5CTemp%5C$BSLMBD$%5C64AC5921875E1060A316FF380C98050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%5CWINDOWS%5CTemp%5C$BSLMBD$%5C54569A515D7C90DEBE2B6A4330EB77A8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Урок 2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«Мы – пешеходы»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Изображение 154"/>
          <p:cNvPicPr/>
          <p:nvPr/>
        </p:nvPicPr>
        <p:blipFill>
          <a:blip r:embed="rId1"/>
          <a:stretch/>
        </p:blipFill>
        <p:spPr>
          <a:xfrm>
            <a:off x="2214720" y="1285920"/>
            <a:ext cx="4857480" cy="54435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1000080" y="3571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ПЕРЕХОДИТ ПЕРЕКРЕСТОК НЕПРАВИЛЬНО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Изображение 155"/>
          <p:cNvPicPr/>
          <p:nvPr/>
        </p:nvPicPr>
        <p:blipFill>
          <a:blip r:embed="rId1"/>
          <a:stretch/>
        </p:blipFill>
        <p:spPr>
          <a:xfrm>
            <a:off x="142920" y="1643040"/>
            <a:ext cx="8777160" cy="51148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500120" y="357120"/>
            <a:ext cx="62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ПЕРЕХОДИТ ДОРОГУ НЕПРАВИЛЬНО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840"/>
            <a:ext cx="54291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ЛИК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3000240" cy="272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5214960" y="421488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1214280" y="43578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6143760" y="1714680"/>
            <a:ext cx="2822400" cy="18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3500280" y="1214280"/>
            <a:ext cx="2428920" cy="2694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 flipV="1" rot="10773000">
            <a:off x="3357000" y="1796760"/>
            <a:ext cx="539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Cambria"/>
              </a:rPr>
              <a:t>П. 4.1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и переходе дороги и движении по обочинам или краю проезжей част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емное время суток</a:t>
            </a:r>
            <a:r>
              <a:rPr b="0" i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или в условиях недостаточной видимост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шеходам рекомендуется, а вне населенных пунктов пешеходы обязаны</a:t>
            </a:r>
            <a:r>
              <a:rPr b="0" i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 иметь при себе предметы со световозвращающими элементами и обеспечивать видимость этих предметов водителями транспортных средст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1571760" y="6429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 ИЮЛЯ 2015 ГОД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Picture 2" descr="http://webserver.modus2.ru/images/396166.jpg"/>
          <p:cNvPicPr/>
          <p:nvPr/>
        </p:nvPicPr>
        <p:blipFill>
          <a:blip r:embed="rId1"/>
          <a:stretch/>
        </p:blipFill>
        <p:spPr>
          <a:xfrm>
            <a:off x="214200" y="1857240"/>
            <a:ext cx="2857680" cy="415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ШЕХО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ешеход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находящееся вне транспортного средства на дороге и не производящее на ней работу. К пешеходам приравниваются лица, передвигающиеся в инвалидных колясках без двигателя, ведущие велосипед, мопед, мотоцикл, везущие санки, тележку, детскую или инвалидную коляск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Picture 1" descr="C:\Documents and Settings\Admin\Рабочий стол\1_2_69 (1).gif"/>
          <p:cNvPicPr/>
          <p:nvPr/>
        </p:nvPicPr>
        <p:blipFill>
          <a:blip r:embed="rId1"/>
          <a:stretch/>
        </p:blipFill>
        <p:spPr>
          <a:xfrm>
            <a:off x="285840" y="3357720"/>
            <a:ext cx="1514520" cy="213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Admin\Рабочий стол\1_2_69.gif"/>
          <p:cNvPicPr/>
          <p:nvPr/>
        </p:nvPicPr>
        <p:blipFill>
          <a:blip r:embed="rId2"/>
          <a:stretch/>
        </p:blipFill>
        <p:spPr>
          <a:xfrm>
            <a:off x="1571760" y="4643280"/>
            <a:ext cx="1342800" cy="1866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Admin\Рабочий стол\1_2_69 (1).gif"/>
          <p:cNvPicPr/>
          <p:nvPr/>
        </p:nvPicPr>
        <p:blipFill>
          <a:blip r:embed="rId3"/>
          <a:stretch/>
        </p:blipFill>
        <p:spPr>
          <a:xfrm>
            <a:off x="3071880" y="3571920"/>
            <a:ext cx="1514520" cy="209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Admin\Рабочий стол\1_2_69 (1).gif"/>
          <p:cNvPicPr/>
          <p:nvPr/>
        </p:nvPicPr>
        <p:blipFill>
          <a:blip r:embed="rId4"/>
          <a:stretch/>
        </p:blipFill>
        <p:spPr>
          <a:xfrm>
            <a:off x="4500720" y="464328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Documents and Settings\Admin\Рабочий стол\1_2_69 (1).gif"/>
          <p:cNvPicPr/>
          <p:nvPr/>
        </p:nvPicPr>
        <p:blipFill>
          <a:blip r:embed="rId5"/>
          <a:stretch/>
        </p:blipFill>
        <p:spPr>
          <a:xfrm>
            <a:off x="6000840" y="3357720"/>
            <a:ext cx="1542960" cy="213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Admin\Рабочий стол\1_2_69 (1).gif"/>
          <p:cNvPicPr/>
          <p:nvPr/>
        </p:nvPicPr>
        <p:blipFill>
          <a:blip r:embed="rId6"/>
          <a:stretch/>
        </p:blipFill>
        <p:spPr>
          <a:xfrm>
            <a:off x="7643880" y="4071960"/>
            <a:ext cx="115236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1000080" y="0"/>
            <a:ext cx="72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ешеходы должны двигаться по тротуарам или пешеходным дорожкам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71680" y="2143080"/>
            <a:ext cx="785808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500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2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тсутствии тротуаров, пешеходных дорожек пешеходы могут двигаться по левой или идти друг за другом по краю проезжей части. 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WINDOWS\Temp\$BSLMBD$\DDAE0DC998822ECE1E9649B678DC5BB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2206800"/>
            <a:ext cx="6357960" cy="4178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928800" y="0"/>
            <a:ext cx="72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ешеходы должны пересекать проезжую часть по пешеходным переходам, в том числе по подземным и надземны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" descr="C:\Documents and Settings\Admin\Рабочий стол\421_large.jpg"/>
          <p:cNvPicPr/>
          <p:nvPr/>
        </p:nvPicPr>
        <p:blipFill>
          <a:blip r:embed="rId1"/>
          <a:stretch/>
        </p:blipFill>
        <p:spPr>
          <a:xfrm>
            <a:off x="428760" y="2214720"/>
            <a:ext cx="1714320" cy="2039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Admin\Рабочий стол\421_large.jpg"/>
          <p:cNvPicPr/>
          <p:nvPr/>
        </p:nvPicPr>
        <p:blipFill>
          <a:blip r:embed="rId2"/>
          <a:stretch/>
        </p:blipFill>
        <p:spPr>
          <a:xfrm>
            <a:off x="2500200" y="435780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Admin\Рабочий стол\421_large.jpg"/>
          <p:cNvPicPr/>
          <p:nvPr/>
        </p:nvPicPr>
        <p:blipFill>
          <a:blip r:embed="rId3"/>
          <a:stretch/>
        </p:blipFill>
        <p:spPr>
          <a:xfrm>
            <a:off x="4357800" y="2143080"/>
            <a:ext cx="1714320" cy="2008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Admin\Рабочий стол\421_large.jpg"/>
          <p:cNvPicPr/>
          <p:nvPr/>
        </p:nvPicPr>
        <p:blipFill>
          <a:blip r:embed="rId4"/>
          <a:stretch/>
        </p:blipFill>
        <p:spPr>
          <a:xfrm>
            <a:off x="6858000" y="4286160"/>
            <a:ext cx="1714680" cy="2000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9"/>
          <p:cNvSpPr/>
          <p:nvPr/>
        </p:nvSpPr>
        <p:spPr>
          <a:xfrm>
            <a:off x="214200" y="435780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и отсутствии пешеходного перехода пешеходу разрешается переходить дорогу под прямым углом к краю проезжей части на участке без разделительной полосы и ограждений. При этом дорога должна хорошо просматриваться в обе стороны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Picture 2" descr="C:\WINDOWS\Temp\$BSLMBD$\64AC5921875E1060A316FF380C9805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14200"/>
            <a:ext cx="8271000" cy="418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8575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4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регулируемых пешеходных переходах пешеходы могут выходить на проезжую часть дороги только после того, как они оценят расстояние до приближающихся транспортных средств и убедятся, что переход будет безопасен.</a:t>
            </a:r>
            <a:br>
              <a:rPr sz="2400"/>
            </a:b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WINDOWS\Temp\$BSLMBD$\54569A515D7C90DEBE2B6A4330EB77A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14200"/>
            <a:ext cx="7072200" cy="3775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3880" y="713880"/>
            <a:ext cx="75726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5</a:t>
            </a:r>
            <a:br>
              <a:rPr sz="2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бегайте улицу, надо переходить ее шагом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bezopasnost-detej.ru/images/2013-2/208-9-pravila-dorozhnogo-dvizheniya-detyam-kartinki.jpg"/>
          <p:cNvPicPr/>
          <p:nvPr/>
        </p:nvPicPr>
        <p:blipFill>
          <a:blip r:embed="rId1"/>
          <a:stretch/>
        </p:blipFill>
        <p:spPr>
          <a:xfrm>
            <a:off x="142920" y="1857240"/>
            <a:ext cx="4378320" cy="32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42.fastpic.ru/big/2012/0904/65/558d7d4a5512e3b19997fd2e2ec51b6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357800" cy="32148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ая соединительная линия 7"/>
          <p:cNvSpPr/>
          <p:nvPr/>
        </p:nvSpPr>
        <p:spPr>
          <a:xfrm>
            <a:off x="142920" y="1857240"/>
            <a:ext cx="4357800" cy="314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 flipV="1">
            <a:off x="0" y="1928520"/>
            <a:ext cx="4500720" cy="314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http://uch.znate.ru/tw_files2/urls_9/6/d-5818/5818_html_55c87946.jpg"/>
          <p:cNvPicPr/>
          <p:nvPr/>
        </p:nvPicPr>
        <p:blipFill>
          <a:blip r:embed="rId1"/>
          <a:stretch/>
        </p:blipFill>
        <p:spPr>
          <a:xfrm>
            <a:off x="4286160" y="3571920"/>
            <a:ext cx="464832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uch.znate.ru/tw_files2/urls_9/6/d-5818/5818_html_207ad67d.jpg"/>
          <p:cNvPicPr/>
          <p:nvPr/>
        </p:nvPicPr>
        <p:blipFill>
          <a:blip r:embed="rId2"/>
          <a:stretch/>
        </p:blipFill>
        <p:spPr>
          <a:xfrm>
            <a:off x="285840" y="2214720"/>
            <a:ext cx="4643280" cy="30715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143000" y="142920"/>
            <a:ext cx="714384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Не выбегайте на дорогу вне зоны пешеходного перехода, в этом месте водитель не ожидает пешеходов и не сможет мгновенно остановить автомобиль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User</cp:lastModifiedBy>
  <dcterms:modified xsi:type="dcterms:W3CDTF">2015-04-08T12:37:53Z</dcterms:modified>
  <cp:revision>42</cp:revision>
  <dc:subject/>
  <dc:title>ОСНОВНЫЕ ПОНЯТИЯ И ТЕРМИНЫ, используемые в правилах дорожного движения</dc:title>
</cp:coreProperties>
</file>